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9C3B-5B81-4482-8DC3-18D9288BF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2913-923C-4D6D-940C-600DE6F6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1995-A22E-4B7D-9995-241EE72DD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A31E-AD2D-4241-890D-F2BAB849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3AB3-A813-42BA-A063-5B7DD14A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8C50-B8C1-4A15-B9DA-9B885EC8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A184-F866-4B58-8174-4153CFB2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7A87-07EB-49A4-9229-9EC6A04C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FCFF-051B-4BCA-8BD1-7BB74710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17F1-0586-4FB4-9B98-280B45AC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6635-F121-4538-B2FC-EA44D4ED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A2E3-D344-41BA-8E93-40F549DA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E111-80E9-4E3D-8673-326CA891C3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ichmond Hill HS Literacy Initiative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s to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. Casil, Ms. Maclarty, and Ms. Meighan – and all other members of the NGA literacy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Writing Strategies (cont.)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Use methods that require students organize their ide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phic Organiz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Require responses to scaffolded and increasingly analytical questions as per Bloom’s Taxonom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Writing Strategies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Provide rubrics and models that encourage peer editing, self-editing and revision on all writing includ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orts/ess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urnal e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ter wr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ing from a different persp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FT writing (see next page for summar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ccffff"/>
                </a:solidFill>
                <a:latin typeface="Arial"/>
              </a:rPr>
              <a:t>RAFT” assignments:</a:t>
            </a:r>
            <a:br>
              <a:rPr sz="2200"/>
            </a:br>
            <a:r>
              <a:rPr b="1" lang="en-US" sz="2200" spc="-1" strike="noStrike">
                <a:solidFill>
                  <a:srgbClr val="ccffff"/>
                </a:solidFill>
                <a:latin typeface="Arial"/>
              </a:rPr>
              <a:t>1. Encourage students to uncover their own voices and formats for presenting their ideas about content information they are studying.  </a:t>
            </a:r>
            <a:br>
              <a:rPr sz="2200"/>
            </a:br>
            <a:r>
              <a:rPr b="1" lang="en-US" sz="2200" spc="-1" strike="noStrike">
                <a:solidFill>
                  <a:srgbClr val="ccffff"/>
                </a:solidFill>
                <a:latin typeface="Arial"/>
              </a:rPr>
              <a:t>2. Students learn to respond to writing prompts that require them to think about various perspectives:</a:t>
            </a:r>
            <a:endParaRPr b="0" lang="en-US" sz="2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le of the Writ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 Who are you as the writer? A movie star? The President? A plant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udienc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 To whom are you writing? A senator?  Yourself? A company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orma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 In what format are you writing? A diary entry? A newspaper?  A love letter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opic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 What are you writing about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Vocabulary Goals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ll students will study [use in a structured manner] [a variety of Tier II and Tier III] vocabulary in meaningful ways that emphasize student usage of the target words."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Vocabulary Strategies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Use competitions and games to address vocabular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c-Tac-To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opar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cabulary B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Use a version of the Frayer Mode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Vocabulary Strategies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Use a version of the Frayer Mode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0" y="0"/>
          <a:ext cx="9258480" cy="695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58480" cy="695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Vocabulary Strategies (cont.)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Highlight word eleme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fixes/Suffi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s/Synony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d famil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Vocabulary Strategies (cont.)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Use word wal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r-coded by top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active (e.g. flip up word to see defini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Implement a systematic approach to recording vocabular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tion in bi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arate notebook or bi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Summary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each have students write a full page (two paragraphs) at least once a month that they have taken time to write and ed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use the new rubric in providing feedback to students for this writing pie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bring samples of student work to our next dept.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eading Goal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ll students will participate in a variety of structured, subject-appropriate reading activities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very day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with the purpose of improving every student’s reading level.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eading Strategies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Use sophisticated reading materia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source do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essional 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fiction tex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eading Strategies (cont.)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Mark the tex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line, highlight important tex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a star in the marg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a ? in the marg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a ! in the marg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rcle unfamiliar wor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eading Strategies (cont.)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Structure activities to require that students think critically about the 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/contr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in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predi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inguish between fact and opin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eading Strategies (cont.)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Structure activities to require students to make connections to the tex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xt-to-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xt-to-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xt-to-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eading Strategies (cont.)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Structure activities to require students to paraphrase the mate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unk rea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 students to rewrite information in their own w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write Regents test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write word proble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Writing Goal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ll students will write daily on topics appropriate to the subject curriculum, produce a monthly, rubrics-based writing assignment and at least one culminating argumentation piece that is presented to an audience.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Writing Strategies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Use methods that require students to demonstrate comprehension and allow for formative assessme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p and j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rance/exit sl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lective wr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ichmond Hill High School</cp:lastModifiedBy>
  <dcterms:modified xsi:type="dcterms:W3CDTF">2012-03-06T18:08:5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